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C797-C07B-4EDF-BDE5-A88F9C79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85BA-DA67-40C1-8830-4E501738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71BB-ECC1-46D7-9062-8E4855FFA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AE44-207F-493D-87DA-1E026005A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0BFE-8813-4A66-936E-F60ACD5E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C90F-E61F-4A59-BAD8-2F851449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727F-AE3A-4BFE-B9B4-0EA180E2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02A9-F1D0-4665-8309-2A3F91FD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4910-3652-4339-B290-DEC935C5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7ACA-221B-49E0-8272-135764C4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E80E-17D1-467F-912D-EA335D41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36E4-7F6E-43EC-82F9-87A1267E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0D56-1A6C-4AB1-9A28-15FA45B0B9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320" y="155520"/>
            <a:ext cx="883908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anguag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词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-ing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形式用作状语时，其逻辑主语一般应与句子的主语一致。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Living in the country, we had few amus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Being unable to help in any other way, I gave her some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,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(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从山上看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we can see as far as the s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______________,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已经失望两次了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) I decided to work much harder than befo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41148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eeing on the top of the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519588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aving disappointed myself tw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23:56:46Z</dcterms:created>
  <dc:creator>user</dc:creator>
  <dc:description/>
  <dc:language>en-US</dc:language>
  <cp:lastModifiedBy>user</cp:lastModifiedBy>
  <dcterms:modified xsi:type="dcterms:W3CDTF">2003-08-09T00:04:42Z</dcterms:modified>
  <cp:revision>2</cp:revision>
  <dc:subject/>
  <dc:title>PowerPoint 演示文稿</dc:title>
</cp:coreProperties>
</file>